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à coins arrondis 6"/>
          <p:cNvSpPr/>
          <p:nvPr/>
        </p:nvSpPr>
        <p:spPr>
          <a:xfrm>
            <a:off x="4857840" y="6357960"/>
            <a:ext cx="36432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5e0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11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177c1"/>
                </a:solidFill>
                <a:latin typeface="Arial"/>
              </a:rPr>
              <a:t>www.europeanschoolnet.org -  www.eu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Image 7" descr="logo_eun.jpg"/>
          <p:cNvPicPr/>
          <p:nvPr/>
        </p:nvPicPr>
        <p:blipFill>
          <a:blip r:embed="rId2"/>
          <a:stretch/>
        </p:blipFill>
        <p:spPr>
          <a:xfrm>
            <a:off x="4786200" y="2071800"/>
            <a:ext cx="3714840" cy="16462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7786440" y="71280"/>
            <a:ext cx="990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800" spc="-1" strike="noStrike">
                <a:solidFill>
                  <a:srgbClr val="0177c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77c1"/>
                </a:solidFill>
                <a:latin typeface="Arial"/>
              </a:rPr>
              <a:t>28/01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428760" y="71280"/>
            <a:ext cx="721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177c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77c1"/>
                </a:solidFill>
                <a:latin typeface="Arial"/>
              </a:rPr>
              <a:t>Powerpoint template - Patricia Munoz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3"/>
          </p:nvPr>
        </p:nvSpPr>
        <p:spPr>
          <a:xfrm>
            <a:off x="7786440" y="71280"/>
            <a:ext cx="990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800" spc="-1" strike="noStrike">
                <a:solidFill>
                  <a:srgbClr val="0177c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77c1"/>
                </a:solidFill>
                <a:latin typeface="Arial"/>
              </a:rPr>
              <a:t>28/01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4"/>
          </p:nvPr>
        </p:nvSpPr>
        <p:spPr>
          <a:xfrm>
            <a:off x="428760" y="71280"/>
            <a:ext cx="721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177c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77c1"/>
                </a:solidFill>
                <a:latin typeface="Arial"/>
              </a:rPr>
              <a:t>Powerpoint template - Patricia Munoz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 rot="7711200">
            <a:off x="659520" y="3307320"/>
            <a:ext cx="1517400" cy="1138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 rot="1228200">
            <a:off x="7222680" y="3301920"/>
            <a:ext cx="1517760" cy="1138320"/>
          </a:xfrm>
          <a:prstGeom prst="rect">
            <a:avLst/>
          </a:prstGeom>
          <a:ln w="0">
            <a:noFill/>
          </a:ln>
        </p:spPr>
      </p:pic>
      <p:pic>
        <p:nvPicPr>
          <p:cNvPr id="160" name="Rectangle 8" descr=""/>
          <p:cNvPicPr/>
          <p:nvPr/>
        </p:nvPicPr>
        <p:blipFill>
          <a:blip r:embed="rId3"/>
          <a:stretch/>
        </p:blipFill>
        <p:spPr>
          <a:xfrm>
            <a:off x="420840" y="1494000"/>
            <a:ext cx="7729560" cy="3058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at do we know from research 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Content Placeholder 6" descr=""/>
          <p:cNvPicPr/>
          <p:nvPr/>
        </p:nvPicPr>
        <p:blipFill>
          <a:blip r:embed="rId4"/>
          <a:stretch/>
        </p:blipFill>
        <p:spPr>
          <a:xfrm>
            <a:off x="347760" y="1547640"/>
            <a:ext cx="8381880" cy="468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4200" y="1143000"/>
            <a:ext cx="8715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Qualitative &amp; quantitative evidence shows that in particular cases video games compared to traditional teaching methods, can be more successful in strengthening students’ knowledge, skills &amp; attitudes towards the topic tau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Digital games provide a meaningful and engaging context, especially for students who are not motivated in traditional settings (see slide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They can be more practical &amp; efficient in certain situations &amp; allow for collaborative learning &amp; development of various skills &amp; knowledge, especially when students create them (see slides 4, 5, 6 &amp; 7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However, they cannot replace teachers, and are only useful as support tools in certain situations &amp; need to be combined with relevant pedagogies (see slide 8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y are digital games engaging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Content Placeholder 3" descr=""/>
          <p:cNvPicPr/>
          <p:nvPr/>
        </p:nvPicPr>
        <p:blipFill>
          <a:blip r:embed="rId1"/>
          <a:stretch/>
        </p:blipFill>
        <p:spPr>
          <a:xfrm>
            <a:off x="420840" y="1706400"/>
            <a:ext cx="8242200" cy="442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88416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gital games can be more practical &amp; efficient teaching tools in some cases, including whe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Content Placeholder 3" descr=""/>
          <p:cNvPicPr/>
          <p:nvPr/>
        </p:nvPicPr>
        <p:blipFill>
          <a:blip r:embed="rId1"/>
          <a:stretch/>
        </p:blipFill>
        <p:spPr>
          <a:xfrm>
            <a:off x="365040" y="1670040"/>
            <a:ext cx="8340840" cy="452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earning through trial &amp; err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rcRect l="21717" t="38951" r="47126" b="32591"/>
          <a:stretch/>
        </p:blipFill>
        <p:spPr>
          <a:xfrm>
            <a:off x="785880" y="1571760"/>
            <a:ext cx="1785960" cy="2284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2"/>
          <a:srcRect l="42091" t="25830" r="25390" b="46706"/>
          <a:stretch/>
        </p:blipFill>
        <p:spPr>
          <a:xfrm>
            <a:off x="4857840" y="1714680"/>
            <a:ext cx="1857240" cy="2143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3"/>
          <a:srcRect l="29793" t="45340" r="57256" b="38468"/>
          <a:stretch/>
        </p:blipFill>
        <p:spPr>
          <a:xfrm>
            <a:off x="6715080" y="1643040"/>
            <a:ext cx="1513080" cy="2214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4"/>
          <a:srcRect l="25390" t="31325" r="49122" b="34621"/>
          <a:stretch/>
        </p:blipFill>
        <p:spPr>
          <a:xfrm>
            <a:off x="2643120" y="1643040"/>
            <a:ext cx="1428840" cy="22147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9"/>
          <p:cNvSpPr/>
          <p:nvPr/>
        </p:nvSpPr>
        <p:spPr>
          <a:xfrm>
            <a:off x="142920" y="4572000"/>
            <a:ext cx="90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b94"/>
                </a:solidFill>
                <a:latin typeface="Arial"/>
              </a:rPr>
              <a:t>Unlike paper-and-pen methods, the electronic format of digital games enables students to repeat tasks indefinitely, so that they can learn from their mistakes through a process of trial and err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5"/>
          <a:srcRect l="22753" t="42312" r="50012" b="34624"/>
          <a:stretch/>
        </p:blipFill>
        <p:spPr>
          <a:xfrm>
            <a:off x="857160" y="1714680"/>
            <a:ext cx="785880" cy="78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0620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gital games are more conducive to user-centred &amp; collaborative 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2143080" cy="2278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rcRect l="17480" t="27893" r="51758" b="42310"/>
          <a:stretch/>
        </p:blipFill>
        <p:spPr>
          <a:xfrm>
            <a:off x="6286680" y="1643040"/>
            <a:ext cx="2071440" cy="22860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6"/>
          <p:cNvSpPr/>
          <p:nvPr/>
        </p:nvSpPr>
        <p:spPr>
          <a:xfrm>
            <a:off x="0" y="4429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b94"/>
                </a:solidFill>
                <a:latin typeface="Arial"/>
              </a:rPr>
              <a:t>Students are in the pilot seat &amp; at the heart of the activity, while teachers become fellow collaborators. Games-Based Learning settings promote interaction within &amp; between teams &amp; allow for ‘wall-less classrooms’ emulating authentic technology supported collaborative working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3"/>
          <a:srcRect l="16836" t="19433" r="50778" b="49803"/>
          <a:stretch/>
        </p:blipFill>
        <p:spPr>
          <a:xfrm>
            <a:off x="3429000" y="1643040"/>
            <a:ext cx="221472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57600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earning by creating a digital g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7120" y="1143000"/>
            <a:ext cx="85010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Getting students to create a digital game has various learning benefi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Improvement of students’ literacy skills, digital skills, writing skills, and knowledge of the top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Digital literacies are promoted by requiring students to combine different information sources (e.g. text, video, graphics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Students need to review the learning material/content thoroughly before integrating it into the g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Improves memory retention, editing skills &amp; knowledge of concep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Is engaging because students are involved in an authentic activity where knowledge is contextual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358120" cy="107172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gital games are not standalone learning solutions &amp; need to be combined with relevant pedag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285560"/>
            <a:ext cx="83012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Digital games can be used in specific circumstances to increase learning outcomes compared to other media or teaching methods (e.g. text books or web-based learning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BUT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 they cannot replace teachers whose support &amp; guidance is crucial for their successful integ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Digital games are more effective when they are incorporated within instructional programmes that include briefing &amp; debrief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3" descr=""/>
          <p:cNvPicPr/>
          <p:nvPr/>
        </p:nvPicPr>
        <p:blipFill>
          <a:blip r:embed="rId1"/>
          <a:srcRect l="0" t="0" r="4167" b="5252"/>
          <a:stretch/>
        </p:blipFill>
        <p:spPr>
          <a:xfrm>
            <a:off x="3357720" y="3714840"/>
            <a:ext cx="1643040" cy="165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urther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2876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For a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reference list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full discussion of all academic articles and policy papers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 used as a basis for this visual presentation, please consult the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‘in depth’ answer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associated to this ques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For a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summarized text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version of the above mentioned ‘in depth’ answer, please consult the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‘in short’ answer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associated to this ques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rcRect l="16844" t="35631" r="65033" b="40097"/>
          <a:stretch/>
        </p:blipFill>
        <p:spPr>
          <a:xfrm>
            <a:off x="285840" y="1643040"/>
            <a:ext cx="571320" cy="612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rcRect l="16844" t="35631" r="65033" b="40097"/>
          <a:stretch/>
        </p:blipFill>
        <p:spPr>
          <a:xfrm>
            <a:off x="285840" y="3571920"/>
            <a:ext cx="571320" cy="61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4:46:21Z</dcterms:created>
  <dc:creator>Gilles</dc:creator>
  <dc:description/>
  <dc:language>en-US</dc:language>
  <cp:lastModifiedBy>caroline</cp:lastModifiedBy>
  <dcterms:modified xsi:type="dcterms:W3CDTF">2011-02-18T11:55:11Z</dcterms:modified>
  <cp:revision>608</cp:revision>
  <dc:subject/>
  <dc:title>Title</dc:title>
</cp:coreProperties>
</file>